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C1B-56E9-462F-911D-7667CB466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B40-0450-4A99-ADAC-DBFCD4561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DEF-D599-4BD5-BEDD-AF565A59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371-E74E-4F6E-9F36-5703612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701-BF6A-4831-8E97-A2D2A912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89F-7467-42C0-8AA6-C48BE228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A37-7233-4CD3-B718-6D4DD57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E6F-B5F9-4F5B-9B2A-EF3CF88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C71-9666-4C6F-89CD-04AAD71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89C-0EE2-4A8D-BF6E-C6A3C57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16E-3E4D-497C-9117-9E87FABB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7CA-9893-435A-AB1B-DBD1D01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23D-9573-4196-85AE-992CD5E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FC2-3903-43A5-B699-6C9B65C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EB3D-E12F-40AF-B3EA-6250E65EC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HRINKAGE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MIPARAMETRIC DENSTIY ESTIM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hamed Amezzi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Pau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mail: mamezzia@depaul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rinkage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80880" y="1905120"/>
                <a:ext cx="837432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: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π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t xml:space="preserve">0,1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ully known density fun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nonparametric estimator of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Risk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533520" y="1828800"/>
                <a:ext cx="62481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" name="Picture 4" descr=""/>
          <p:cNvPicPr/>
          <p:nvPr/>
        </p:nvPicPr>
        <p:blipFill>
          <a:blip r:embed="rId1"/>
          <a:srcRect l="0" t="0" r="12197" b="53032"/>
          <a:stretch/>
        </p:blipFill>
        <p:spPr>
          <a:xfrm>
            <a:off x="457200" y="3809880"/>
            <a:ext cx="8686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T and 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932040" y="1581120"/>
                <a:ext cx="7754760" cy="500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preliminary 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rinkage preliminar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stimators:</m:t>
                        </m:r>
                      </m:e>
                      <m:e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esting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corresponding critical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55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4952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Los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04920" y="3111480"/>
                <a:ext cx="441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ing the ISE with respect to </m:t>
                    </m:r>
                    <m:r>
                      <m:t xml:space="preserve">π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28600" y="1600200"/>
                <a:ext cx="1576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ISE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6760" y="2057400"/>
            <a:ext cx="8877240" cy="8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191120" cy="156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67122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1066680" y="6172200"/>
            <a:ext cx="4977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19320" y="3686040"/>
            <a:ext cx="495288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543800" cy="10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304920" y="2133720"/>
                <a:ext cx="8153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estimating the non-stochastic part of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, we obtai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fully data-based estimator of </m:t>
                        </m:r>
                        <m:r>
                          <m:t xml:space="preserve">f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86200" y="1533600"/>
            <a:ext cx="5257800" cy="4029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114800" y="5334120"/>
            <a:ext cx="525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xplots f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0.01, 0.1, 0.2, 0.3, 0.4,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339840" y="2209680"/>
                <a:ext cx="3995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</m:t>
                        </m:r>
                      </m:e>
                      <m:e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π</m:t>
                            </m:r>
                            <m:r>
                              <m:t xml:space="preserve">=</m:t>
                            </m:r>
                            <m:r>
                              <m:t xml:space="preserve">π</m:t>
                            </m:r>
                            <m:r>
                              <m:t xml:space="preserve">d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ness-Of-Fi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795240" y="1566720"/>
                <a:ext cx="7520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Δ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where       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ull Distribution: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2:06:52Z</dcterms:created>
  <dc:creator>math</dc:creator>
  <dc:description/>
  <dc:language>en-US</dc:language>
  <cp:lastModifiedBy>SmoothNoise</cp:lastModifiedBy>
  <dcterms:modified xsi:type="dcterms:W3CDTF">2009-05-15T12:01:25Z</dcterms:modified>
  <cp:revision>74</cp:revision>
  <dc:subject/>
  <dc:title>SHRINKAGE-BASED  SEMIPARAMETRIC DENSTIY ESTIMATION</dc:title>
</cp:coreProperties>
</file>